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9452-693C-441D-A8B9-14652E360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A736-D7A6-406D-88FF-86453FF3D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5952-D296-428B-94DC-7B4C1BDF1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E65D-7413-446B-B80F-B20DFFF908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D6FF-0BD0-4FFA-B194-46B0C95210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338E-F7A0-4E78-8363-AB96DC1D5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6A6E-27D0-49FD-B959-208A17DF3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9487-9010-4CCD-8A2D-E7D214D2A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4D36-747E-4D89-B305-7765E96D7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3B21-3732-4FBE-B948-519D87863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6491-67AD-48AA-BB33-9BB29C1C8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54F3-BA78-4AC3-92AE-5BE2C6E0F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510A-AD6A-47D4-AB98-CF50D0F056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01B2-F456-4311-886C-B49DFE7CDC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erspectives 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ink about the Role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hout Out …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ords and/or phrases to describe your experience as the teacher or the student in the role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C298-A5BE-42EE-8B69-1C498CE66E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A9D8-7FD7-4E96-A1A2-239C56EE91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AF05-A558-4340-AD0E-A0AE1414AC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86E8-676E-40CF-8392-82802C1117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connections between key components of algebraic thinking and proportion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key components of algebraic thinking and proportional reasoning in the curriculum expectations for a specific course (participant to cho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dentify key proportional reasoning concepts in a sample grade 9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“responding to students in the moment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427A-F28B-43FD-9AA5-8B9BF5083A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98D6-1567-4DFE-9EE6-6BFFF99295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onsider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sticker dot graph of courses our group created on the first day showing what we have taught or will be teaching this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reat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‘course’ groups of 3 or 4 participants to look at components of algebraic thinking and proportional reasoning in the curriculum expec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9989-BFCD-49D3-A017-2D31F896D2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0A8B-D7C6-4C89-9863-73F54D40B4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ing half of a sheet of chart paper, create a Venn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the Venn Diagram to illustrate similarities and differences between the key mathematical ideas related to Proportional Reasoning and Algebraic Thinking </a:t>
            </a: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in general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(not related to your specific cou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hink about: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formation from our plenary sessions and the Big Ideas in the CAMPPP Program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C209-FC5F-4D32-84A4-06CF973572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426A-0733-4514-A5D6-033FC04E67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change Venn Diagrams with a neighbour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post-it note to provide feedback: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“We really like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post-it note to provide feedback: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“We are wondering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turn Venn Diagrams to original tabl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6ADD-1951-4F54-A4C7-B27A1C1F6F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2908-9954-4086-9C70-611102FE08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now on the course you chose to work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p out the expectations related to Proportional Reasoning and Algebraic Thinking on your Venn Diagram – look for similarities/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t your Venn Diagram when your group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esources: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Hard copies of curriculum documents are available as well as on-lin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A059-C0C5-4082-93C4-B5A18C1517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E69D-AFE2-4AD6-98BB-2D24E7C5F5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029200" y="990720"/>
            <a:ext cx="3429000" cy="761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4800600"/>
            <a:ext cx="3200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e 9 Math Problem – Keepin’ T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student council collects aluminium pop tabs to raise money to purchase a wheel chair. A company buys the pop tabs for $0.88 per kil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f 1267 pop tabs have a mass of one pound, how many pop tabs are needed to purchase a wheelchair worth $15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important proportional reasoning concepts do you see in this problem from a grade 9 content perspec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how your work.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 kilogram = 2.2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0655-1CA9-4E08-8CAD-CB2479AA1F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8B5C-DB71-4A95-9D73-C9133DB1F9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cc0099"/>
                </a:solidFill>
                <a:latin typeface="Arial"/>
              </a:rPr>
              <a:t>Solve with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943240" y="152388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aft a ‘student solution’.  Think about possible student  approaches/misconceptions as you create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0856-7CA3-4FD7-AF96-8EFDF012A6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15E1-3787-404F-9A0F-B81D399B2C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990720"/>
            <a:ext cx="2666880" cy="99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With your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another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e pair takes the role of the student.  Role play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other pair takes the role of the teacher.  Practice responding to students in the mo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verse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395F-AEBE-4DE3-B7DE-CF98B5201B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ED93-91D1-4221-B284-07B872A703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7-28T20:20:44Z</dcterms:modified>
  <cp:revision>19</cp:revision>
  <dc:subject/>
  <dc:title>&lt;Title&gt;</dc:title>
</cp:coreProperties>
</file>